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BBB-D0C2-44ED-A1F4-F3191174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4F6-4381-4899-BAC8-761785A4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2A7-78ED-4A76-BD94-4C0D08CE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FBA-2D9D-467E-AD3B-DACCF257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A15-0ADA-4533-8C41-908817B0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ED0-93D9-489C-AC86-366AB535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068-F8BC-48B5-AF5F-A04AA863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028-4E01-4750-801A-4EBDB274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681-35B1-4601-BF60-0016D4EA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E38-8D9F-457A-A395-3E28AEE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782-8512-41D7-ABFB-84D07A1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18F-731D-4166-9FD3-94D7328C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C001-70E8-4FDD-AF5F-B5EED222E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novoimages.quebarato.com.br/photos/big/6/7/2E1D67_5.jpg&amp;imgrefurl=http://www.quebarato.com.br/busca.htm%3Fkw%3Dservicos%2Bde%2Bsindicatos%2Bfederacoes%26catid%3D778%26uf%3D-1&amp;usg=__xiGrtPbCW6zr3MlH4j5rS5sAJtI=&amp;h=308&amp;w=410&amp;sz=34&amp;hl=pt-BR&amp;start=14&amp;um=1&amp;tbnid=pj1dWTGDBFvPvM:&amp;tbnh=94&amp;tbnw=125&amp;prev=/images%3Fq%3Dmin%25C3%25A9rio%2Be%2Btransporte%2Bde%2Bpanam%25C3%25A1%26ndsp%3D20%26hl%3Dpt-BR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.br/imgres?imgurl=http://images.quebarato.com.br/photos/big/1/6/50C116_1.jpg&amp;imgrefurl=http://ro.quebarato.com.br/classificados/caminhao-8x4-tracado-cacamba-agrego-centopeia-faturamento-54-000__5292310.html&amp;usg=__u_KC2TdLQIF4UxjczGPIPthoG68=&amp;h=525&amp;w=700&amp;sz=59&amp;hl=pt-BR&amp;start=39&amp;um=1&amp;tbnid=zB56Sx0RmFIyFM:&amp;tbnh=105&amp;tbnw=140&amp;prev=/images%3Fq%3Dmin%25C3%25A9rio%2Be%2Btransporte%2Bde%2Bpanam%25C3%25A1%26ndsp%3D20%26hl%3Dpt-BR%26sa%3DN%26start%3D20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.br/imgres?imgurl=http://images.quebarato.com.br/photos/big/F/5/24A3F5_1.jpg&amp;imgrefurl=http://pr.quebarato.com.br/classificados/rrp-transportes-e-locacoes__2401269.html&amp;usg=__pgRK6neKi87li71GFM4_wleHP0w=&amp;h=958&amp;w=1264&amp;sz=104&amp;hl=pt-BR&amp;start=2&amp;um=1&amp;tbnid=K7jH1u_gWRVbmM:&amp;tbnh=114&amp;tbnw=150&amp;prev=/images%3Fq%3Dmin%25C3%25A9rio%2Be%2Btransporte%2Bde%2Bpanam%25C3%25A1%26ndsp%3D20%26hl%3Dpt-BR%26sa%3DN%26um%3D1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.br/imgres?imgurl=http://www.pmdf.df.gov.br/goa/IMAGENS/FotosHelio/AS532.jpg&amp;imgrefurl=http://moraisvinna.blogspot.com/2008_08_31_archive.html&amp;usg=__5xceWk0QZbsI55qMTOBWbwE2VTY=&amp;h=352&amp;w=550&amp;sz=41&amp;hl=pt-BR&amp;start=92&amp;um=1&amp;tbnid=vPeQtYKOQ_TsOM:&amp;tbnh=85&amp;tbnw=133&amp;prev=/images%3Fq%3Dmin%25C3%25A9rio%2Be%2Btransporte%2Bde%2Bpanam%25C3%25A1%26ndsp%3D20%26hl%3Dpt-BR%26sa%3DN%26start%3D80%26um%3D1" TargetMode="External"/><Relationship Id="rId8" Type="http://schemas.openxmlformats.org/officeDocument/2006/relationships/image" Target="../media/image12.jpe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rc.unesp.br/museudpm/banco/oxidos/cromita.gif&amp;imgrefurl=http://thatyclose.spaces.live.com/&amp;usg=__TrHX6PFlQTFoDKGzBCG-89P1Tes=&amp;h=241&amp;w=180&amp;sz=26&amp;hl=pt-BR&amp;start=4&amp;um=1&amp;tbnid=ca3lo9Hs4JikeM:&amp;tbnh=110&amp;tbnw=82&amp;prev=/images%3Fq%3Dmin%25C3%25A9rio%26hl%3Dpt-BR%26sa%3DG%26um%3D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static.hsw.com.br/gif/iron-hematite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.br/imgres?imgurl=http://www.portalsaofrancisco.com.br/alfa/elementos-quimicos/imagens/titanio-2.jpg&amp;imgrefurl=http://www.portalsaofrancisco.com.br/alfa/elementos-quimicos/titanio.php&amp;usg=__pQzxqB2BUIyM0Zz85pAlws2sVBI=&amp;h=259&amp;w=216&amp;sz=16&amp;hl=pt-BR&amp;start=6&amp;um=1&amp;tbnid=Kg9pZpOR9kwntM:&amp;tbnh=112&amp;tbnw=93&amp;prev=/images%3Fq%3Dmin%25C3%25A9rio%26hl%3Dpt-BR%26sa%3DG%26um%3D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.br/imgres?imgurl=http://3.bp.blogspot.com/_lcROPDz10r4/SfEJXyygr_I/AAAAAAAABJE/rnBy9kgVZ24/s400/min&#233;rio%2Bde%2Bferro%2B1.jpg&amp;imgrefurl=http://orebate-cassioribeiro.blogspot.com/2008/07/o-ao-da-mina-ao-alto-forno.html&amp;usg=__JKmY99VIDznR026jNjsl0oKcNOM=&amp;h=335&amp;w=360&amp;sz=40&amp;hl=pt-BR&amp;start=34&amp;um=1&amp;tbnid=4e8KGMmcYY5C5M:&amp;tbnh=113&amp;tbnw=121&amp;prev=/images%3Fq%3Dmin%25C3%25A9rio%26ndsp%3D20%26hl%3Dpt-BR%26sa%3DN%26start%3D20%26um%3D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tuleirus.weblog.com.pt/arquivo/Panama_Canal.jpg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ieltours.com.br/portalv1/media%5CEspecial%5Cpanama.jp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t.correioweb.com.br/arquivos/divirta/materias2007/panama.jpg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ecbahia.com/fotos_tnm/claudiorocha_panama1.jpg&amp;imgrefurl=http://www.ecbahia.com/especiais/tricolornomundo/mundo.asp%3Fid%3D296&amp;usg=__dtlxGoUuCPxqRhAtrCHjpDTebUU=&amp;h=413&amp;w=550&amp;sz=53&amp;hl=pt-BR&amp;start=141&amp;um=1&amp;tbnid=DZpsXpl-Kk_T9M:&amp;tbnh=100&amp;tbnw=133&amp;prev=/images%3Fq%3Dpan%25C3%25A1ma%26ndsp%3D20%26hl%3Dpt-BR%26sa%3DN%26start%3D140%26um%3D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br/imgres?imgurl=http://4.bp.blogspot.com/_L5d2gIcnfYg/R7dmfC8uPtI/AAAAAAAAAr0/-mju38rOPAY/s320/3055%2B-%2B6754(2).JPG&amp;imgrefurl=http://urbanosdebelohorizonte.blogspot.com/2008_02_01_archive.html&amp;usg=__fo1ps7RT0qbBFigDv6V_fCAXs7g=&amp;h=256&amp;w=320&amp;sz=22&amp;hl=pt-BR&amp;start=86&amp;um=1&amp;tbnid=pfGsi6phxKFmuM:&amp;tbnh=94&amp;tbnw=118&amp;prev=/images%3Fq%3Dmin%25C3%25A9rio%2Be%2Btransporte%2Bde%2Bpanam%25C3%25A1%26ndsp%3D20%26hl%3Dpt-BR%26sa%3DN%26start%3D80%26um%3D1" TargetMode="External"/><Relationship Id="rId4" Type="http://schemas.openxmlformats.org/officeDocument/2006/relationships/image" Target="../media/image7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ndeira de 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8"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e de miné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71600"/>
            <a:ext cx="3743280" cy="241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1268280"/>
            <a:ext cx="4248000" cy="331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4221000"/>
            <a:ext cx="4392360" cy="243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9280" y="4005360"/>
            <a:ext cx="410544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8"/>
    <p:sndAc>
      <p:stSnd>
        <p:snd r:embed="rId9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ério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34136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Ver imagem em tamanho grand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1484280"/>
            <a:ext cx="2665080" cy="232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155736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8360" y="3933720"/>
            <a:ext cx="3672000" cy="266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788000" y="4005360"/>
            <a:ext cx="388764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8"/>
    <p:sndAc>
      <p:stSnd>
        <p:snd r:embed="rId10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me: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Wesley Rodriguês 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º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lisson Alves 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º 0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5805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a de 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al do 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3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462880" cy="640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ida típica de Panam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6316560"/>
            <a:ext cx="720720" cy="69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e no Panam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rede de ônibus do Panamá é muito extens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e chega a quase todos os locais do país, resultando um meio de transporte ideal para desfrutar as maravilhosas paisagens que oferece o país. Os preços são muito razoávei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 Panamá pode-se viajar em táxi, cujas tarifas são regidas por um sistema de zona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141720"/>
            <a:ext cx="7704000" cy="3527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8"/>
    <p:sndAc>
      <p:stSnd>
        <p:snd r:embed="rId5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me Oficial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: República do Pana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rganização do Estado: República Presiden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apital: Cidade do Pana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Área: 75.517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dioma: espanh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Maiores cidades: Cidade do Panamá, San Miguelito, David, Col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Unidade monetária: Balb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esidente do panam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1746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anamá está localizado próximo à linha do Equador, e ocupa o istmo que une a América do Sul à América Central. O país é banhado ao norte pelo Mar das Caraíbas, ao sul, pelo Golfo do Panamá e o Oceano Pacífico, e tem limites a leste com a Colômbia e a oeste com a Costa Rica. De clima tropical, a região possui cerca de 1,5 mil ilhas, a maioria no litoral do Pacífico, tendo quase 30% de sua área ocupada por reservas de proteção ambiental. A população é heterogênea, formada por uma maioria de mestiços de índios e europeu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calização de 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35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pulação de Panamá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 população de panamá até julho de 2008 tinha 3.296.693 habitantes. A capital, Panamá, conta 813 097 habitantes (1 173 000 habitantes com a aglomeração), seguida por Colón (198 551 habitantes), à extremidade do norte do canal de Panamá, e David (138 241 habitantes), cidade agrícola situada perto da fronteira do Costa 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heel spokes="8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00:33:23Z</dcterms:created>
  <dc:creator>Escola</dc:creator>
  <dc:description/>
  <dc:language>en-US</dc:language>
  <cp:lastModifiedBy>Escola</cp:lastModifiedBy>
  <dcterms:modified xsi:type="dcterms:W3CDTF">2009-09-12T00:37:14Z</dcterms:modified>
  <cp:revision>4</cp:revision>
  <dc:subject/>
  <dc:title>Panamá </dc:title>
</cp:coreProperties>
</file>